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0720" y="401400"/>
            <a:ext cx="8236080" cy="23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3278160"/>
            <a:ext cx="9144000" cy="27162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3278160"/>
            <a:ext cx="9144000" cy="272088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571600" y="65008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81F6-7A52-4983-A3B1-9F13619E7C2D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5132520" y="6510240"/>
            <a:ext cx="36558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1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© Copyright 2008 Your Organiz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6040" y="141552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47680">
              <a:spcBef>
                <a:spcPts val="499"/>
              </a:spcBef>
              <a:buClr>
                <a:srgbClr val="4d4d4d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4d4d4d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3" marL="1422360" indent="-16812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4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5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6" marL="1778040" indent="-171360">
              <a:spcBef>
                <a:spcPts val="49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132520" y="6510240"/>
            <a:ext cx="36558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r">
              <a:lnSpc>
                <a:spcPct val="101000"/>
              </a:lnSpc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4d4d4d"/>
                </a:solidFill>
                <a:latin typeface="Arial"/>
              </a:rPr>
              <a:t>© Copyright 2008 Your Organizati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571600" y="65008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C2ECF-3609-4C44-B577-C83AC58A1C91}" type="slidenum">
              <a:rPr b="0" lang="en-US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5160" y="1415880"/>
            <a:ext cx="7840800" cy="50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2487600"/>
            <a:ext cx="9144000" cy="32068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1" marL="3096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603360" indent="253800" algn="ctr">
              <a:spcBef>
                <a:spcPts val="400"/>
              </a:spcBef>
              <a:buClr>
                <a:srgbClr val="4d4d4d"/>
              </a:buClr>
              <a:buSzPct val="115000"/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3" marL="919080" indent="335160" algn="ctr">
              <a:spcBef>
                <a:spcPts val="349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4" marL="1203480" indent="403200" algn="ctr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5" marL="1203480" indent="403200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6" marL="1203480" indent="403200">
              <a:spcBef>
                <a:spcPts val="249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onetrees.com/" TargetMode="External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conetrees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1066320"/>
            <a:ext cx="8259840" cy="93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Presentation Title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476600" y="5970600"/>
            <a:ext cx="4562640" cy="65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By Name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Designation, Organization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0720" y="401760"/>
            <a:ext cx="823608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Slide Title</a:t>
            </a:r>
            <a:endParaRPr b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46040" y="1415520"/>
            <a:ext cx="8229600" cy="473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First level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38080" indent="-342720">
              <a:spcBef>
                <a:spcPts val="451"/>
              </a:spcBef>
              <a:buClr>
                <a:srgbClr val="4d4d4d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Second level</a:t>
            </a: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  <a:p>
            <a:pPr lvl="2" marL="1162080" indent="-304920">
              <a:spcBef>
                <a:spcPts val="400"/>
              </a:spcBef>
              <a:buClr>
                <a:srgbClr val="4d4d4d"/>
              </a:buClr>
              <a:buSzPct val="11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d4d4d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lvl="3" marL="1521000" indent="-266760">
              <a:spcBef>
                <a:spcPts val="349"/>
              </a:spcBef>
              <a:buClr>
                <a:srgbClr val="4d4d4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d4d4d"/>
                </a:solidFill>
                <a:latin typeface="Arial"/>
              </a:rPr>
              <a:t>Fourth level</a:t>
            </a: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lvl="4" marL="1797120" indent="-190440">
              <a:spcBef>
                <a:spcPts val="249"/>
              </a:spcBef>
              <a:buClr>
                <a:srgbClr val="4d4d4d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d4d4d"/>
                </a:solidFill>
                <a:latin typeface="Arial"/>
              </a:rPr>
              <a:t>Fifth level</a:t>
            </a: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lvl="4" marL="179712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d4d4d"/>
              </a:solidFill>
              <a:latin typeface="Arial"/>
            </a:endParaRPr>
          </a:p>
          <a:p>
            <a:pPr marL="380880" indent="-380880">
              <a:spcBef>
                <a:spcPts val="499"/>
              </a:spcBef>
              <a:buClr>
                <a:srgbClr val="4d4d4d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ff"/>
                </a:solidFill>
                <a:uFillTx/>
                <a:latin typeface="Arial"/>
                <a:hlinkClick r:id="rId1"/>
              </a:rPr>
              <a:t>Hyperlink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838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nding Slides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295280"/>
            <a:ext cx="823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presentation template was designed by Abhay R of Cone Trees, a User Research &amp; Design consultancy and resourc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You are more than welcome to use and modify this template for your own presentation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0720" y="401400"/>
            <a:ext cx="82360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Last Slid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1295280"/>
            <a:ext cx="8236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 case you like the template, let others as well as me know.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   </a:t>
            </a:r>
            <a:br>
              <a:rPr sz="2000"/>
            </a:b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Visit me at: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conetrees.com</a:t>
            </a: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  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333333"/>
                </a:solidFill>
                <a:uFillTx/>
                <a:latin typeface="Arial"/>
              </a:rPr>
              <a:t>Email me at : hello/at/conetrees/dot/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0T06:30:44Z</dcterms:created>
  <dc:creator>Abhay R</dc:creator>
  <dc:description>If you are looking for an elegant powerpoint template, here's one free of cost. In case you like it, let others as well as me know</dc:description>
  <cp:keywords>Clean Elegant Corporate Powerpoint Template Free</cp:keywords>
  <dc:language>en-US</dc:language>
  <cp:lastModifiedBy>abhay.rautela</cp:lastModifiedBy>
  <dcterms:modified xsi:type="dcterms:W3CDTF">2008-10-11T16:08:49Z</dcterms:modified>
  <cp:revision>12</cp:revision>
  <dc:subject/>
  <dc:title>Clean &amp; Elegant Corporate Powerpoint Template</dc:title>
</cp:coreProperties>
</file>